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F4F-ECC5-4506-BF47-56462D5D0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B4C5-7DE1-4F03-B8AD-AA43A8104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63D-B32C-4E62-96FD-2986B4BED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259E-4902-4D1A-BBC2-CAA8CE641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DAA-E19C-4432-81CF-64953060E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7BE-97A3-4801-9A9C-29C98BFF8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FCC4-36F1-4EBC-9FC3-0E12974EB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43AE-DF57-4786-877A-783FF80E2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2BF2-0C3E-438C-A552-D168656F0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2CD-9584-4670-934B-9795EB97B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66B-3921-4621-8751-611387AF7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1A82-BA5B-4A34-AFF6-5421060B7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B9F2-4377-4A0B-9178-635ED8879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6B73-3057-45F3-B213-0D73685C9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C125-54D1-4468-B814-BAD8E3EEC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5C56-56D1-4929-8709-D29F93D3B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48CD-4F4C-41CC-BDFA-0AF1100C8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11B7-995B-4C30-A536-F6BC800A3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3F5A-8222-4F63-A8B3-E076B42E1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D9D-6A58-45EC-B0D6-2297E3707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D59E-FA67-461E-A3F6-CB5F4A45C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C1E-9C83-4138-BC70-74AD92FA0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0F3-9E06-445C-A45F-8CAB744BD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09A-4A0E-46F5-8B8C-9B95EA8B2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89FB-7C0E-450A-9923-6862AFF4F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138-FADA-49B6-BB04-7DAA3088C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A2C-5218-4F44-97B5-A57DB6CC5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607-FB07-4977-A375-44C34B510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ABC6-55EA-4E7B-BB4C-C58E571C3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DBE-C355-4885-9096-31B00862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2AF-B1C7-4F49-BF18-80175DD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8E4-7A55-48DB-BC4C-70F4FBDA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E8D-B90E-4F5C-94DF-D40E2C47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8B1-4B1E-4063-BAE7-CD63A459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5B0-7063-44C7-B677-10665A89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2F3-F128-418D-BD4A-95E722B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BE3-E72F-4AC0-9DE4-782F3DC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A35-10CF-4CA8-88BC-F5FFAB05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8C5-446E-4D23-BC18-601326C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E4C-9084-4184-AC74-B0C71A5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FB4-0B7D-403E-A38E-2CB03B6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3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964-858A-403F-8D9B-331C6DABA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3"/>
          <p:cNvSpPr/>
          <p:nvPr/>
        </p:nvSpPr>
        <p:spPr>
          <a:xfrm>
            <a:off x="714240" y="2428920"/>
            <a:ext cx="7715520" cy="9288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al Health during Disast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er:  Shib Sekhar Dat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or: Prof. A M Mehend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4"/>
          <p:cNvSpPr/>
          <p:nvPr/>
        </p:nvSpPr>
        <p:spPr>
          <a:xfrm>
            <a:off x="428760" y="785880"/>
            <a:ext cx="1071360" cy="4284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43400" y="142920"/>
            <a:ext cx="2485800" cy="428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720" y="142920"/>
            <a:ext cx="8829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rban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ough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people do not migrate for food but for water they do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lik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choma and scab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rease during drough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idence of diarrhoea and waterborne diseases such as cholera also increas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nsive use of a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mall number of water supplies vulnerable to conta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ught itself constitute an emergency, even if reserves of cash, food and livestock are sufficient to avoid food shortag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ter quantity is an absolute priorit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alth staff should cooperate with the government public works or water-supply departments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ith 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droughts, there is also often a problem of water qualit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trucking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needed following disasters that affect water supp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357720" y="357120"/>
            <a:ext cx="2714400" cy="3571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of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tion of the water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to the water-treatment works, including structural damage, mechanical damage, loss of power supply and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tion due to flo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amage to pumping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failure in all or part of a water distribution network,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lowing back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ly repaired plumbing in domestic or public buildings,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ulting in back siphon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disinfect a contaminated source correctly, or to maintain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equate chlorine residual throughout th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Documents and Settings\Shib Sekhar Datta\Desktop\flood-child.jpg"/>
          <p:cNvPicPr/>
          <p:nvPr/>
        </p:nvPicPr>
        <p:blipFill>
          <a:blip r:embed="rId1"/>
          <a:stretch/>
        </p:blipFill>
        <p:spPr>
          <a:xfrm>
            <a:off x="7499520" y="0"/>
            <a:ext cx="16444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429000" y="214200"/>
            <a:ext cx="2428920" cy="500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fe wate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the general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-2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operating water-borne sewerage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-4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mass feed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-3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field hospitals and first-aid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-6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livestock accompanying displaced persons and refuge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litres per day per cow or ca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b5064"/>
                </a:solidFill>
                <a:latin typeface="Times New Roman"/>
                <a:ea typeface="Times New Roman"/>
              </a:rPr>
              <a:t>15 litres per day per goat or other small anim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Documents and Settings\Shib Sekhar Datta\Desktop\frewin_water_beitbridge_090217.jpg"/>
          <p:cNvPicPr/>
          <p:nvPr/>
        </p:nvPicPr>
        <p:blipFill>
          <a:blip r:embed="rId1"/>
          <a:srcRect l="0" t="0" r="17964" b="19314"/>
          <a:stretch/>
        </p:blipFill>
        <p:spPr>
          <a:xfrm>
            <a:off x="6072120" y="1643040"/>
            <a:ext cx="2506680" cy="29084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lowchart: Predefined Process 3"/>
          <p:cNvSpPr/>
          <p:nvPr/>
        </p:nvSpPr>
        <p:spPr>
          <a:xfrm>
            <a:off x="71280" y="458640"/>
            <a:ext cx="3429000" cy="613080"/>
          </a:xfrm>
          <a:prstGeom prst="flowChartPredefinedProcess">
            <a:avLst/>
          </a:prstGeom>
          <a:solidFill>
            <a:srgbClr val="fff18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"/>
          <p:cNvSpPr/>
          <p:nvPr/>
        </p:nvSpPr>
        <p:spPr>
          <a:xfrm>
            <a:off x="3786120" y="142920"/>
            <a:ext cx="185760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waste: Faec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, bacteria and eggs or larvae of parasit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rrhoea, cholera and typho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pread and are major causes of sickness and death in disast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worm infections are transmitted through faeces and spread rapidly wher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pen defe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nd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ople are bare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e to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emia and malnu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lso render people more susceptible to other dise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ldren are especially vulne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 the above infection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measures should be taken to prevent the spread of infe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lorinating water sup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hand-washing fac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riority is to isolate and contain fae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C:\Documents and Settings\Shib Sekhar Datta\Desktop\sanitation-in-urban-peri-urban-areas-cap-haitien-social-marketing-approach8.png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3"/>
          <p:cNvSpPr/>
          <p:nvPr/>
        </p:nvSpPr>
        <p:spPr>
          <a:xfrm>
            <a:off x="3143160" y="142920"/>
            <a:ext cx="2714760" cy="42876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ss feeding c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cilities needed at mass feeding c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supp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lets for staff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-washing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dealing with liquid wastes from kitc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dealing with solid wastes from kitc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and appropriate materials for cooking/refrig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and appropriate materials for ea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rol of rodents and other p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C:\Documents and Settings\Shib Sekhar Datta\My Documents\My Pictures\CAM\Picture 007.jpg"/>
          <p:cNvPicPr/>
          <p:nvPr/>
        </p:nvPicPr>
        <p:blipFill>
          <a:blip r:embed="rId1"/>
          <a:stretch/>
        </p:blipFill>
        <p:spPr>
          <a:xfrm>
            <a:off x="6215040" y="714240"/>
            <a:ext cx="2643120" cy="19814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8" name="Picture 4" descr="C:\Documents and Settings\Shib Sekhar Datta\Desktop\flood food.jpg"/>
          <p:cNvPicPr/>
          <p:nvPr/>
        </p:nvPicPr>
        <p:blipFill>
          <a:blip r:embed="rId2"/>
          <a:stretch/>
        </p:blipFill>
        <p:spPr>
          <a:xfrm>
            <a:off x="6072120" y="4484520"/>
            <a:ext cx="2714760" cy="20275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ounded Rectangle 3"/>
          <p:cNvSpPr/>
          <p:nvPr/>
        </p:nvSpPr>
        <p:spPr>
          <a:xfrm>
            <a:off x="928800" y="142920"/>
            <a:ext cx="764388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ectors and diseases likely to be present in emergency sett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Vector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in dise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quito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, yellow fever, dengue, viral encephalitis, Filari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ouseflies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oea, dysentery, conjunctivitis, typhoid fever, tracho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ckroaches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oea, dysentery, salmonellosis, chol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emic typhus, pediculosis, relapsing fever, trench f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d bug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skin inflam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Ticks 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kettsial fever, relapsing fever, viral encephalit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Rodent (mit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kettsial pox, scrub typ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Rodent (flea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bonic plague, endemic typ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Rod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 bite fever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ptospiro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almonell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ecially after flood, eg: Surat and Mumba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ounded Rectangle 5"/>
          <p:cNvSpPr/>
          <p:nvPr/>
        </p:nvSpPr>
        <p:spPr>
          <a:xfrm>
            <a:off x="2000160" y="4429080"/>
            <a:ext cx="5643720" cy="1643040"/>
          </a:xfrm>
          <a:prstGeom prst="roundRect">
            <a:avLst>
              <a:gd name="adj" fmla="val 16667"/>
            </a:avLst>
          </a:prstGeom>
          <a:solidFill>
            <a:srgbClr val="d1de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4"/>
          <p:cNvSpPr/>
          <p:nvPr/>
        </p:nvSpPr>
        <p:spPr>
          <a:xfrm>
            <a:off x="3857760" y="3643200"/>
            <a:ext cx="2143080" cy="500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"/>
          <p:cNvSpPr/>
          <p:nvPr/>
        </p:nvSpPr>
        <p:spPr>
          <a:xfrm>
            <a:off x="1928880" y="1214280"/>
            <a:ext cx="5643360" cy="221472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2"/>
          <p:cNvSpPr/>
          <p:nvPr/>
        </p:nvSpPr>
        <p:spPr>
          <a:xfrm>
            <a:off x="3786120" y="50004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200" y="14292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eas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gnosis and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ctor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vironmental hygi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rson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isanc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the causative ag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al hygi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son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Documents and Settings\Shib Sekhar Datta\Desktop\3months09.jpg"/>
          <p:cNvPicPr/>
          <p:nvPr/>
        </p:nvPicPr>
        <p:blipFill>
          <a:blip r:embed="rId1"/>
          <a:stretch/>
        </p:blipFill>
        <p:spPr>
          <a:xfrm>
            <a:off x="6286680" y="214200"/>
            <a:ext cx="2547720" cy="1719360"/>
          </a:xfrm>
          <a:prstGeom prst="rect">
            <a:avLst/>
          </a:prstGeom>
          <a:ln w="0">
            <a:noFill/>
          </a:ln>
        </p:spPr>
      </p:pic>
      <p:sp>
        <p:nvSpPr>
          <p:cNvPr id="117" name="Rounded Rectangle 3"/>
          <p:cNvSpPr/>
          <p:nvPr/>
        </p:nvSpPr>
        <p:spPr>
          <a:xfrm>
            <a:off x="2643120" y="142920"/>
            <a:ext cx="414360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al manage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ol of mosquito bree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ing land, filling borrow pits and draining flooded areas, screening of water contai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uman 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concern food production, eating, drinking, sleeping, defecation and laundering, can promote the propagation of vectors and pests or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ffect contacts between humans and vec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ecation fiel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ways be kept at a distance from cooking areas, because of flies and possible surface rainfall run-off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ounded Rectangle 3"/>
          <p:cNvSpPr/>
          <p:nvPr/>
        </p:nvSpPr>
        <p:spPr>
          <a:xfrm>
            <a:off x="2857680" y="214200"/>
            <a:ext cx="3786120" cy="42876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giene and person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ion on hygiene and personal prote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provided to the publi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sonal protection measu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ccines, drug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for prophylaxi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stic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in impregnated mosquito ne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d by qualified health staff and used under their guida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ulnerable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k and wounded, children, elderly, pregnant women and people who lack immunity (including relief workers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ed additional prot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Documents and Settings\Shib Sekhar Datta\Desktop\Infectious_Disease_Control_WHO[3].png"/>
          <p:cNvPicPr/>
          <p:nvPr/>
        </p:nvPicPr>
        <p:blipFill>
          <a:blip r:embed="rId1"/>
          <a:stretch/>
        </p:blipFill>
        <p:spPr>
          <a:xfrm>
            <a:off x="6858000" y="157176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ounded Rectangle 2"/>
          <p:cNvSpPr/>
          <p:nvPr/>
        </p:nvSpPr>
        <p:spPr>
          <a:xfrm>
            <a:off x="1143000" y="214200"/>
            <a:ext cx="721512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3"/>
          <p:cNvSpPr/>
          <p:nvPr/>
        </p:nvSpPr>
        <p:spPr>
          <a:xfrm>
            <a:off x="214200" y="1357200"/>
            <a:ext cx="8572680" cy="18576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214200" y="4000680"/>
            <a:ext cx="8643960" cy="2571480"/>
          </a:xfrm>
          <a:prstGeom prst="roundRect">
            <a:avLst>
              <a:gd name="adj" fmla="val 16667"/>
            </a:avLst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rol of communicable diseases and prevention of epide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paredness and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lth and outreach staff in the identification and M/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l stocks of suppl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quipment for diagnosis,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ngthening health surveillance systems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racticing protoc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aising awaren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the population likely to be affected by a disa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ute respiratory infe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rrhoe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killers in emerge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e promo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 of adequate quantities of safe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tion facilities and appropriate shelter are absolutely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sles outbrea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 common hazard in emerg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arly vaccination campaig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considered before any cases app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ounded Rectangle 2"/>
          <p:cNvSpPr/>
          <p:nvPr/>
        </p:nvSpPr>
        <p:spPr>
          <a:xfrm>
            <a:off x="3071880" y="214200"/>
            <a:ext cx="335736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amework of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ortance of environmental health during disa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chnical Asp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lter and emergency sett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su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 and pest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f communicable diseases and prevention of epide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cident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mical and radiation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uary services and handling of the d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promotion and community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saster management in In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ounded Rectangle 2"/>
          <p:cNvSpPr/>
          <p:nvPr/>
        </p:nvSpPr>
        <p:spPr>
          <a:xfrm>
            <a:off x="1714680" y="214200"/>
            <a:ext cx="60004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blic health surveillance and outbreak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to designat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 health staf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ublic-health surveillanc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urhood and community health wor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 under the worst condi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arge-scale population mov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reporting systems can be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ver priority dis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rious water- and sanitation-related epidemic disea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hoid or paratyphoid fever, chole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yphus, plague, encephalitis or meningitis, as well as to excessive numbers of poisonings (including food poisoning) or cases of malar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istories/Contact identification/source of diseas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C:\Documents and Settings\Shib Sekhar Datta\Desktop\Ebola%20Jan23_46118.jpg"/>
          <p:cNvPicPr/>
          <p:nvPr/>
        </p:nvPicPr>
        <p:blipFill>
          <a:blip r:embed="rId1"/>
          <a:stretch/>
        </p:blipFill>
        <p:spPr>
          <a:xfrm>
            <a:off x="6723000" y="5041800"/>
            <a:ext cx="2421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3"/>
          <p:cNvSpPr/>
          <p:nvPr/>
        </p:nvSpPr>
        <p:spPr>
          <a:xfrm>
            <a:off x="1714680" y="214200"/>
            <a:ext cx="60004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exibility to rescu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ord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mergency response activit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asic facil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mergency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curity and safety needs of personn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sychological nee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nsportation and log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pecial consi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n to declare an emergenc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6d2b"/>
                </a:solidFill>
                <a:latin typeface="Times New Roman"/>
                <a:ea typeface="Times New Roman"/>
              </a:rPr>
              <a:t>When to seek for support from outside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seek for International assistance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of disaster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should move out and who should move in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oblig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Shib Sekhar Datta\Desktop\national-disaster-response-team-784588.jpg"/>
          <p:cNvPicPr/>
          <p:nvPr/>
        </p:nvPicPr>
        <p:blipFill>
          <a:blip r:embed="rId1"/>
          <a:stretch/>
        </p:blipFill>
        <p:spPr>
          <a:xfrm>
            <a:off x="6572160" y="2571840"/>
            <a:ext cx="178272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4"/>
          <p:cNvSpPr/>
          <p:nvPr/>
        </p:nvSpPr>
        <p:spPr>
          <a:xfrm>
            <a:off x="285840" y="4214880"/>
            <a:ext cx="8286840" cy="20718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3"/>
          <p:cNvSpPr/>
          <p:nvPr/>
        </p:nvSpPr>
        <p:spPr>
          <a:xfrm>
            <a:off x="285840" y="1643040"/>
            <a:ext cx="8358120" cy="1714680"/>
          </a:xfrm>
          <a:prstGeom prst="roundRect">
            <a:avLst>
              <a:gd name="adj" fmla="val 16667"/>
            </a:avLst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"/>
          <p:cNvSpPr/>
          <p:nvPr/>
        </p:nvSpPr>
        <p:spPr>
          <a:xfrm>
            <a:off x="1285920" y="142920"/>
            <a:ext cx="69292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42920"/>
            <a:ext cx="8643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 incidents: Chemical and Radiation emergen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cidents affect people in a number of way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ffects of explo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ffects of f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effects of the chemic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easures to reduce the health risks of chemical incid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all chemicals in commercial establish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labelling all chemicals in trans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pidly notifying the chemical incident emer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ntaminating land or water already contaminated by waste dispos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C:\Documents and Settings\Shib Sekhar Datta\Desktop\Time_Bhopal.jpg"/>
          <p:cNvPicPr/>
          <p:nvPr/>
        </p:nvPicPr>
        <p:blipFill>
          <a:blip r:embed="rId1"/>
          <a:stretch/>
        </p:blipFill>
        <p:spPr>
          <a:xfrm>
            <a:off x="7143840" y="714240"/>
            <a:ext cx="18572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Documents and Settings\Shib Sekhar Datta\Desktop\p20.jpg"/>
          <p:cNvPicPr/>
          <p:nvPr/>
        </p:nvPicPr>
        <p:blipFill>
          <a:blip r:embed="rId1"/>
          <a:stretch/>
        </p:blipFill>
        <p:spPr>
          <a:xfrm>
            <a:off x="6980400" y="5192640"/>
            <a:ext cx="2163600" cy="166536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le 3"/>
          <p:cNvSpPr/>
          <p:nvPr/>
        </p:nvSpPr>
        <p:spPr>
          <a:xfrm>
            <a:off x="2000160" y="4143240"/>
            <a:ext cx="3786120" cy="157176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2"/>
          <p:cNvSpPr/>
          <p:nvPr/>
        </p:nvSpPr>
        <p:spPr>
          <a:xfrm>
            <a:off x="1928880" y="214200"/>
            <a:ext cx="564336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ortuary services and handling of the d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/decayed human bodies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 not generally create a serious health haz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ss they are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lluting sources of drinking-water with faecal ma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ected with plague or typh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milies may carry out all the necessary activ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ssues which should be given notice ar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very of the dea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ganization of the mortu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the d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andling the d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C:\Documents and Settings\Shib Sekhar Datta\Desktop\large_dkchina.jpg"/>
          <p:cNvPicPr/>
          <p:nvPr/>
        </p:nvPicPr>
        <p:blipFill>
          <a:blip r:embed="rId2"/>
          <a:stretch/>
        </p:blipFill>
        <p:spPr>
          <a:xfrm>
            <a:off x="6215040" y="3763800"/>
            <a:ext cx="2330640" cy="1522440"/>
          </a:xfrm>
          <a:prstGeom prst="rect">
            <a:avLst/>
          </a:prstGeom>
          <a:ln w="0">
            <a:noFill/>
          </a:ln>
        </p:spPr>
      </p:pic>
      <p:sp>
        <p:nvSpPr>
          <p:cNvPr id="142" name="Rounded Rectangle 6"/>
          <p:cNvSpPr/>
          <p:nvPr/>
        </p:nvSpPr>
        <p:spPr>
          <a:xfrm>
            <a:off x="571680" y="6000840"/>
            <a:ext cx="5429160" cy="642960"/>
          </a:xfrm>
          <a:prstGeom prst="roundRect">
            <a:avLst>
              <a:gd name="adj" fmla="val 16667"/>
            </a:avLst>
          </a:prstGeom>
          <a:solidFill>
            <a:srgbClr val="c0c3d0"/>
          </a:solidFill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posal of animal dead body/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acas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ly in flood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2"/>
          <p:cNvSpPr/>
          <p:nvPr/>
        </p:nvSpPr>
        <p:spPr>
          <a:xfrm>
            <a:off x="1857240" y="214200"/>
            <a:ext cx="585792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lth promotion and community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raising /mobilization programmes play an essential part in reducing disaster vulnerability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creasing public awaren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nvironmental health haz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ng peopl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disasters can be preven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act can be redu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eople’s awareness of the threats to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ing people to participate in protecting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msel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lth servi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om disaster and the effects of disa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C:\Documents and Settings\Shib Sekhar Datta\Desktop\j0439384-full;init_.jpg"/>
          <p:cNvPicPr/>
          <p:nvPr/>
        </p:nvPicPr>
        <p:blipFill>
          <a:blip r:embed="rId1"/>
          <a:stretch/>
        </p:blipFill>
        <p:spPr>
          <a:xfrm>
            <a:off x="6429240" y="4071960"/>
            <a:ext cx="1857600" cy="1746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ounded Rectangle 2"/>
          <p:cNvSpPr/>
          <p:nvPr/>
        </p:nvSpPr>
        <p:spPr>
          <a:xfrm>
            <a:off x="2786040" y="714240"/>
            <a:ext cx="3857760" cy="57168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cations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in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chools for children and adolesc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education programmes for ad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ally on disaster prepared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 an integral part of ongoing health or development program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information through the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ss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nd mobilization through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:\Documents and Settings\Shib Sekhar Datta\Desktop\disaster_movie.jpg"/>
          <p:cNvPicPr/>
          <p:nvPr/>
        </p:nvPicPr>
        <p:blipFill>
          <a:blip r:embed="rId1"/>
          <a:stretch/>
        </p:blipFill>
        <p:spPr>
          <a:xfrm>
            <a:off x="7143840" y="1071720"/>
            <a:ext cx="1709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ed Rectangle 3"/>
          <p:cNvSpPr/>
          <p:nvPr/>
        </p:nvSpPr>
        <p:spPr>
          <a:xfrm>
            <a:off x="1928880" y="4929120"/>
            <a:ext cx="4357800" cy="164304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2"/>
          <p:cNvSpPr/>
          <p:nvPr/>
        </p:nvSpPr>
        <p:spPr>
          <a:xfrm>
            <a:off x="2143080" y="14292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rrent initiatives (Indian perspe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dia Disaster Resource Network (IDR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d by the Ministry of Home affairs in collaboration with the UND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ganised Information syst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llection and transmission of specific equipments and expertise database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Quick deci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bilising equipments and skilled human resources during emergenc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ment of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nchayati Raj Institutions, Urban Local Bodies and the NGO’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plete, coordinated effor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pared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Quick Respo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c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Documents and Settings\Shib Sekhar Datta\Desktop\ndma.jpg"/>
          <p:cNvPicPr/>
          <p:nvPr/>
        </p:nvPicPr>
        <p:blipFill>
          <a:blip r:embed="rId1"/>
          <a:stretch/>
        </p:blipFill>
        <p:spPr>
          <a:xfrm>
            <a:off x="6643800" y="4929120"/>
            <a:ext cx="15382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functional groups assigned with specific task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ounded Rectangle 2"/>
          <p:cNvSpPr/>
          <p:nvPr/>
        </p:nvSpPr>
        <p:spPr>
          <a:xfrm>
            <a:off x="1071720" y="1500120"/>
            <a:ext cx="685800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azard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1071720" y="2428920"/>
            <a:ext cx="684828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ness and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/>
          <p:cNvSpPr/>
          <p:nvPr/>
        </p:nvSpPr>
        <p:spPr>
          <a:xfrm>
            <a:off x="1071720" y="3357720"/>
            <a:ext cx="685800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lief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5"/>
          <p:cNvSpPr/>
          <p:nvPr/>
        </p:nvSpPr>
        <p:spPr>
          <a:xfrm>
            <a:off x="1071720" y="4357800"/>
            <a:ext cx="685800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ounded Rectangle 3"/>
          <p:cNvSpPr/>
          <p:nvPr/>
        </p:nvSpPr>
        <p:spPr>
          <a:xfrm>
            <a:off x="3571920" y="142920"/>
            <a:ext cx="185724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ferenc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isner B and Adams J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nvironmental health in emergencies and disasters. Geneva. World Health Organization, 2002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nolly M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mmunicable disease control in emergencies:  A field manual. Geneva. World Health Organization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ring SC and Brown BJ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threat of communicable diseases following natural disasters, a Public Health Response. New York. Disaster Manage Response, 2005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orld Health Organization and Pan American Health Organization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of dead bodies in disaster situations. Washington, D. C. WHO and PAHO, 2004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urther Read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ndmindia.nic.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National Disaster Management, Ministry of Home Affairs, Govt. of Indi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southasiadisasters.n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All India Disaster Mitigation Institute, Ahmedabad, Gujara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indiadisasters.or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28760" y="714240"/>
            <a:ext cx="2571480" cy="50004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umanitarian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72120" y="714240"/>
            <a:ext cx="2571840" cy="50004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stainabl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1280" y="3071880"/>
            <a:ext cx="1500480" cy="7858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umanitar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286760" y="3000240"/>
            <a:ext cx="1785960" cy="7858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85960" y="264312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ab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785960" y="392904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357880" y="257184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57880" y="385776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214800" y="4929120"/>
            <a:ext cx="2571480" cy="500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ste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2214720" y="6000840"/>
            <a:ext cx="4714560" cy="500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: The disaster management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13"/>
          <p:cNvCxnSpPr/>
          <p:nvPr/>
        </p:nvCxnSpPr>
        <p:spPr>
          <a:xfrm>
            <a:off x="3571560" y="998640"/>
            <a:ext cx="1786680" cy="21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sp>
        <p:nvSpPr>
          <p:cNvPr id="64" name="Rectangle 15"/>
          <p:cNvSpPr/>
          <p:nvPr/>
        </p:nvSpPr>
        <p:spPr>
          <a:xfrm rot="10800000">
            <a:off x="6715080" y="301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2060"/>
                </a:solidFill>
                <a:latin typeface="Calibri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285920" y="2928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2060"/>
                </a:solidFill>
                <a:latin typeface="Calibri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3500280" y="2443320"/>
            <a:ext cx="1928880" cy="1914480"/>
          </a:xfrm>
          <a:prstGeom prst="ellipse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xplosion 1 18"/>
          <p:cNvSpPr/>
          <p:nvPr/>
        </p:nvSpPr>
        <p:spPr>
          <a:xfrm>
            <a:off x="4071960" y="3929040"/>
            <a:ext cx="914400" cy="91440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929040" y="2143080"/>
            <a:ext cx="1143000" cy="7146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21"/>
          <p:cNvSpPr/>
          <p:nvPr/>
        </p:nvSpPr>
        <p:spPr>
          <a:xfrm rot="19411800">
            <a:off x="3976560" y="2463480"/>
            <a:ext cx="152640" cy="1000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286680" y="5072040"/>
            <a:ext cx="2598480" cy="1428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1" name="TextBox 14"/>
          <p:cNvSpPr/>
          <p:nvPr/>
        </p:nvSpPr>
        <p:spPr>
          <a:xfrm>
            <a:off x="357120" y="35712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an sub continent has been exposed to disasters from time immem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7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of the land vulnerable is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%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vulner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is vulner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of the land is vulner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a96d2b"/>
                </a:solidFill>
                <a:latin typeface="Times New Roman"/>
                <a:ea typeface="Times New Roman"/>
              </a:rPr>
              <a:t>Cycl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of various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 made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00040" y="3929040"/>
            <a:ext cx="8429760" cy="271476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0040" y="857160"/>
            <a:ext cx="8429760" cy="29289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1785960" y="14292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iorities in the acute emergency phase inclu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people to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rete safely and hygien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ng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ater supplies from conta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amount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ater for drinking, cooking and perso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omestic hygi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people have enough water containers to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lect and store water clea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people hav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ap for hand wash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people hav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fficient cooking utensils, equipment and fu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ok and store food saf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people have the knowledge and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derstanding they need to avoid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ing or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moving sources of chemical or radiological contam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vacuating peo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ensure they are no longer exposed to these hazar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3429000" y="214200"/>
            <a:ext cx="221472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cu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environmental health workers are likely to be involved in provi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spitals and medical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mergency operation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ble water supplies for organized rescue te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th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sks from hazardous materia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formation on the location of haz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gh-occupancy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and sanitation for large, isolated and trapped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dling human and animal corp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ssistance with th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rieval, transportation and temporary storage of human bo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500880" y="1428840"/>
            <a:ext cx="21146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ounded Rectangle 3"/>
          <p:cNvSpPr/>
          <p:nvPr/>
        </p:nvSpPr>
        <p:spPr>
          <a:xfrm>
            <a:off x="2714760" y="214200"/>
            <a:ext cx="407196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lter and emergency sett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ing on structural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ity for repair of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uraging from staying in homes that are definitely unsaf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ng people about the nearest safe water supply/ measures they can take to ensure the safety of drinking-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ltering, boiling, disinfecting, storing in closed contain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ng them in th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fe disposal of wa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ere and where not to defecat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 the importance of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S for children with diarrho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ng people that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supply may be contamin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Sewage, debris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tributing a stock solution of bleach or water chlorination table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ankets and kerosene lanterns for illumination at n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ing on the status of sanitation systems,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viding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mporary alternative sanitation facil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126200" y="5500800"/>
            <a:ext cx="20178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5"/>
          <p:cNvSpPr/>
          <p:nvPr/>
        </p:nvSpPr>
        <p:spPr>
          <a:xfrm>
            <a:off x="3357720" y="142920"/>
            <a:ext cx="2714400" cy="6429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1571760" y="1071720"/>
            <a:ext cx="6357960" cy="50004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tuations demanding emergency water supply respo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ort ter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ies affecting rural or unserved periurba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ies in urban situations where a central water service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ies involving population displacement and temporary shel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ng ter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cement emergencies that result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mi permanent emergency sett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Documents and Settings\Shib Sekhar Datta\Desktop\Tubewell_installation_B8_121A01.jpg"/>
          <p:cNvPicPr/>
          <p:nvPr/>
        </p:nvPicPr>
        <p:blipFill>
          <a:blip r:embed="rId1"/>
          <a:stretch/>
        </p:blipFill>
        <p:spPr>
          <a:xfrm>
            <a:off x="7429680" y="4238640"/>
            <a:ext cx="1714320" cy="261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Shib Sekhar Datta\Desktop\city-water-supply.jpg"/>
          <p:cNvPicPr/>
          <p:nvPr/>
        </p:nvPicPr>
        <p:blipFill>
          <a:blip r:embed="rId2"/>
          <a:srcRect l="42969" t="22355" r="5469" b="3344"/>
          <a:stretch/>
        </p:blipFill>
        <p:spPr>
          <a:xfrm>
            <a:off x="0" y="0"/>
            <a:ext cx="12859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4"/>
          <p:cNvSpPr/>
          <p:nvPr/>
        </p:nvSpPr>
        <p:spPr>
          <a:xfrm>
            <a:off x="3500280" y="71280"/>
            <a:ext cx="2500560" cy="7002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"/>
          <p:cNvSpPr/>
          <p:nvPr/>
        </p:nvSpPr>
        <p:spPr>
          <a:xfrm>
            <a:off x="4071960" y="928800"/>
            <a:ext cx="1285920" cy="4284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ral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ir or replacement of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ir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ring catch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ir of gravity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pply pipes and distribution syst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and providing steel or plastic tanks to replace broken concrete reservoi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mmon to find in rural areas that a significant proportion of water supply installations are out of order, owing to long-term problems with maintenance and repai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Documents and Settings\Shib Sekhar Datta\Desktop\22flood_600.jpg"/>
          <p:cNvPicPr/>
          <p:nvPr/>
        </p:nvPicPr>
        <p:blipFill>
          <a:blip r:embed="rId1"/>
          <a:stretch/>
        </p:blipFill>
        <p:spPr>
          <a:xfrm>
            <a:off x="6419880" y="0"/>
            <a:ext cx="27241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38:21Z</dcterms:created>
  <dc:creator> Dr. Shib Sekhar Datta</dc:creator>
  <dc:description>Registrar, Dr. Sushila Nayar School of Public Health, Sewagram</dc:description>
  <cp:keywords>Disaster Environmental Health</cp:keywords>
  <dc:language>en-US</dc:language>
  <cp:lastModifiedBy> </cp:lastModifiedBy>
  <dcterms:modified xsi:type="dcterms:W3CDTF">2009-03-22T19:19:26Z</dcterms:modified>
  <cp:revision>77</cp:revision>
  <dc:subject>Public Health</dc:subject>
  <dc:title>Environmental Health during Disaster</dc:title>
</cp:coreProperties>
</file>